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F473-747A-4CEE-B5B9-F76D2C7E1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7301-DFA9-4B29-B34C-6CE12419D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0EEF-B7EB-4615-9380-6E7FEFFC2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66E5-739A-4822-B433-7FA72E842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1535-70B2-4A3B-BFE8-F79D526F4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D791-E033-4C27-85E2-305ADB3E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2A46-17B4-439E-9584-25EA33A79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5057-C54A-4735-B32A-F21289075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EF1C-3065-4648-A201-F8A511BAE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ECA4-1109-4366-AF42-A2E500074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280D-DCCC-4CAC-A6A7-16082F4FD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40BB-7064-478B-BA5C-CA8320976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2306-1A91-4BD9-9F0A-A91D9E940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51D7-F59C-4B38-92BE-1B36954DD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33F-CD54-454E-906A-BA2B1880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23F-04F2-4FCE-BCE4-53D0FEFE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CA9-7402-4955-8371-81CDBD23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5BD-07A4-4C33-82C1-3A99860D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8DC-44AB-476D-94E2-996A0D09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2C51-7AEE-4AF3-914A-38188374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91A-AB19-4053-8CFC-9C6C32B2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60B-F91A-4CD1-893F-0687AA89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BFC-8CED-421F-9575-877C60F2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E42-A568-43F5-99DA-E908BEB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B51-A5B6-417D-81AB-5CB0E3E0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44A-21E2-4B46-8AD5-98446DA2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6D34-E40C-441D-B302-810F69722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ow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instorm:  What parts of a house separate it from it’s external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ay enter through those par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brain_getting_an_idea_hg_clr"/>
          <p:cNvPicPr/>
          <p:nvPr/>
        </p:nvPicPr>
        <p:blipFill>
          <a:blip r:embed="rId1"/>
          <a:stretch/>
        </p:blipFill>
        <p:spPr>
          <a:xfrm>
            <a:off x="5810400" y="22096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sion of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move from a high concentration to low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ccurs because of a concentration grad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ion only occurs if their is a concentration grad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diffuse"/>
          <p:cNvPicPr/>
          <p:nvPr/>
        </p:nvPicPr>
        <p:blipFill>
          <a:blip r:embed="rId1"/>
          <a:stretch/>
        </p:blipFill>
        <p:spPr>
          <a:xfrm>
            <a:off x="5257800" y="3962520"/>
            <a:ext cx="3228840" cy="2500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iffan"/>
          <p:cNvPicPr/>
          <p:nvPr/>
        </p:nvPicPr>
        <p:blipFill>
          <a:blip r:embed="rId2"/>
          <a:stretch/>
        </p:blipFill>
        <p:spPr>
          <a:xfrm>
            <a:off x="6629400" y="457200"/>
            <a:ext cx="2286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oncentration gradient no longer exist it is said to be a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diffan"/>
          <p:cNvPicPr/>
          <p:nvPr/>
        </p:nvPicPr>
        <p:blipFill>
          <a:blip r:embed="rId1"/>
          <a:stretch/>
        </p:blipFill>
        <p:spPr>
          <a:xfrm>
            <a:off x="5529240" y="2367000"/>
            <a:ext cx="2048040" cy="3343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usion an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think molecules can ever move against their concentration gradi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atpaseani"/>
          <p:cNvPicPr/>
          <p:nvPr/>
        </p:nvPicPr>
        <p:blipFill>
          <a:blip r:embed="rId1"/>
          <a:stretch/>
        </p:blipFill>
        <p:spPr>
          <a:xfrm>
            <a:off x="4572000" y="2514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s movement in and out of 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ly perm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ubstances can pass fre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ubstances can pass to an ex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not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cells to maintain homeosta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Picture4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9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 phospholipid an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pids in the cell membr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 is hydrophilic (love w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ils are hydrophobic (hate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embrane"/>
          <p:cNvPicPr/>
          <p:nvPr/>
        </p:nvPicPr>
        <p:blipFill>
          <a:blip r:embed="rId1"/>
          <a:stretch/>
        </p:blipFill>
        <p:spPr>
          <a:xfrm>
            <a:off x="4800600" y="1905120"/>
            <a:ext cx="4114800" cy="426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spholipids only let small molecules pass thr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the larger ones get in the c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quiz_membrane"/>
          <p:cNvPicPr/>
          <p:nvPr/>
        </p:nvPicPr>
        <p:blipFill>
          <a:blip r:embed="rId1"/>
          <a:stretch/>
        </p:blipFill>
        <p:spPr>
          <a:xfrm>
            <a:off x="762120" y="2895480"/>
            <a:ext cx="8381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ins in the C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ins allow only certain molecules pass by based on their sha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" descr="facildiffani"/>
          <p:cNvPicPr/>
          <p:nvPr/>
        </p:nvPicPr>
        <p:blipFill>
          <a:blip r:embed="rId1"/>
          <a:stretch/>
        </p:blipFill>
        <p:spPr>
          <a:xfrm>
            <a:off x="4876920" y="32004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Picture4"/>
          <p:cNvPicPr/>
          <p:nvPr/>
        </p:nvPicPr>
        <p:blipFill>
          <a:blip r:embed="rId2"/>
          <a:stretch/>
        </p:blipFill>
        <p:spPr>
          <a:xfrm>
            <a:off x="4876920" y="1447920"/>
            <a:ext cx="38098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rbohydrates in the cell membr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get a heart transplant can you get just anybodies hea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cells to be recogn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Picture4"/>
          <p:cNvPicPr/>
          <p:nvPr/>
        </p:nvPicPr>
        <p:blipFill>
          <a:blip r:embed="rId1"/>
          <a:stretch/>
        </p:blipFill>
        <p:spPr>
          <a:xfrm>
            <a:off x="5410080" y="2057400"/>
            <a:ext cx="3733920" cy="403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eart_pumping_hg_clr"/>
          <p:cNvPicPr/>
          <p:nvPr/>
        </p:nvPicPr>
        <p:blipFill>
          <a:blip r:embed="rId2"/>
          <a:stretch/>
        </p:blipFill>
        <p:spPr>
          <a:xfrm>
            <a:off x="1295280" y="4191120"/>
            <a:ext cx="24768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assive_Transport.asf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696080" cy="5867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organ</dc:creator>
  <dc:description/>
  <dc:language>en-US</dc:language>
  <cp:lastModifiedBy>Morgan karas</cp:lastModifiedBy>
  <dcterms:modified xsi:type="dcterms:W3CDTF">2010-12-06T19:22:35Z</dcterms:modified>
  <cp:revision>4</cp:revision>
  <dc:subject/>
  <dc:title>PowerPoint Presentation</dc:title>
</cp:coreProperties>
</file>